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4117-B22D-49A6-9384-E2BA45E8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126EC-6D1D-4E2B-80C5-E8FC5160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3CE9-7C88-42D5-A77E-8275293A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378D-6F11-4E7F-A1EA-F97A857F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1515-8857-4CE2-87BC-AF3B82E6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D97C-D895-4C83-A6B8-EE5D783A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184F-B00E-4894-AA9B-74A0F049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14ED-F90F-4AF5-86AF-C73F66A4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7798-E27C-4072-9231-523CF4BB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A54F-27A0-411B-924D-ADAAFA21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98E1-BB7A-4BDC-A799-482F74D7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EE88-A5CF-404F-9830-47AAC693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C53-27F8-4DBB-AC52-5C2B95D8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B1B4-D1B4-4C19-8D0A-6C849A5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66B8-E755-4797-AD12-A191FCEA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C684-1BFF-4B35-B2C4-2814DF7A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3679-C0A1-4766-A3E3-8202EAC2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91B4-72C9-476C-A636-CA01936E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1104-8843-4CA3-8A4F-C9414530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1C77-DD60-4151-AA67-84BE29E9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7726-F9CE-4C00-9B73-C1A4C552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9B3E-754A-4BA1-B111-47977F54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8DD2-2D3C-4986-B1A6-2974AA5A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9759-FA59-4B7E-8FA7-13F25548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B305-C943-4193-8F53-48AFF924EF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B3AB-0375-4820-A12D-DC109B215912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РМАТИВНЫЕ ОСНОВАНИ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РГАНИЗАЦИИ И ПРОВЕДЕНИЯ ДЕМОНСТРАЦИОННОГО ЭКЗАМЕН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ОДНОЙ ИЗ ФОРМ ГОСУДАРСТВЕННОЙ ИТОГОВОЙ АТТЕСТАЦИ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Некрасова Юлия Александровна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заместитель директора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Каменск-Уральского агропромышленного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техникума по научно-методической работе,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уководитель РЦ РПО СО агропромышленного и лесотехнического профиля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590920" y="6477120"/>
            <a:ext cx="3809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3300"/>
                </a:solidFill>
                <a:latin typeface="Arial"/>
              </a:rPr>
              <a:t>г. Каменск-Уральский, 2018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ЕРЕЧЕНЬ ПОРУЧЕНИЙ ПРЕЗИДЕНТА РФ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1б Перечня поручений по итогам рабочей поездки в Свердловскую область, состоявшейся 6 марта 2018 года (утв. Президентом РФ от 6 апреля 2018 г. N Пр-580)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обеспечить увеличение до 50 процентов доли организаций, которые реализуют образовательные программы среднего профессионального образования и в которых демонстрационный экзамен по стандартам «Ворлдскиллс» является одной из форм государственной итоговой аттестации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525240"/>
            <a:ext cx="8915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КОРРЕКТИРОВКА ЛОКАЛЬНЫХ НОРМАТИВНЫХ АКТОВ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8120" y="1747800"/>
            <a:ext cx="8686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 в ПОО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7840" y="35812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оведения государственной итоговой аттестации по образовательной программе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99180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8520" indent="0" algn="just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ержденный приказом Министерства образования и науки РФ от 16 августа 2013 г. N 968, с изменениями, внесенными приказом Министерства образования и науки РФ от 31 января 2014 г. N 74 и приказом Министерства образования и науки РФ от 17 ноября 2017 г. N 1138.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71440" y="37260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3114720" y="409572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52280" y="4724280"/>
            <a:ext cx="88059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12 выпускники по рабочим профессиям выполняют «выпускную практическую квалификационную работу и письменную экзаменационную рабо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емонстрационный экзамен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1920" y="991800"/>
            <a:ext cx="853452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профессионального образования по профессии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71440" y="37260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3352680" y="2606760"/>
            <a:ext cx="1305000" cy="603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533520" y="34290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8.6  «Государственная итоговая аттестация включает защиту выпускной квалификационной работы (выпускная практическая квалификационная работа и письменная экзаменационная работа)»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7760" y="836640"/>
            <a:ext cx="85345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ядок проведения государственной итоговой аттестации по образовательным программам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76120" y="21384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-6480" y="2752560"/>
            <a:ext cx="896940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12 «В зависимости от осваиваемой образовательной программы СПО и в соответствии с ФГОС СПО выпускная квалификационная работа выполняется в следующих видах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ная работа (дипломный проект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(или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ационный экзамен - для выпускников, осваивающих программы подготовки специалистов среднего звена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67760" y="836640"/>
            <a:ext cx="8534520" cy="12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среднего профессионального образования по специальности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76120" y="213840"/>
            <a:ext cx="86868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1305000" cy="6033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-6480" y="2752560"/>
            <a:ext cx="89694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. 8.6. «Государственная итоговая аттестация включает подготовку и защит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ной квалификационной рабо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ипломная работа, дипломный проект). Обязательное требование - соответствие тематики выпускной квалификационной работы содержанию одного или нескольких профессиональных модулей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экзамен вводится по усмотрению образовательной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»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ЫВОД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43080" y="13716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spcAft>
                <a:spcPts val="1199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ПКРС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форме ДЭ и в форме практического задания, разработанного внутри ПОО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ЭР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52440" y="3886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just">
              <a:spcAft>
                <a:spcPts val="1199"/>
              </a:spcAft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ПССЗ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К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ипломная работа, дипломный проект)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1640"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ударственный экзаме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форме ДЭ и в форме любого практического задания, разработанного внутри ПОО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8-12-02T11:13:40Z</dcterms:modified>
  <cp:revision>2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